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852-2951-4637-B55C-88920B8D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BDA-51C3-444D-A3BD-B3AEA0C5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213-18AD-4E70-930C-ACD2CAC8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CAF-19A1-4A7B-A53E-937897BE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8E77-0178-4568-9ACC-AA5488C8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77FD-396F-4111-924F-B787FCE4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0730-81B7-4098-845E-476AAA80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13D8-FF71-4AC8-A049-05D34900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4F5A-E743-4E0C-954F-51948D13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CBD4-B7EF-4ED1-9373-87103A1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4F2C-9037-4CDA-8D8A-2F112E4B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182-C0D5-4F96-AB42-CF364DCC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8E18-0778-4681-93B1-9EA778CA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421-0F5C-4DB8-AF5A-2C0ED2F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E197-2F86-4375-A130-4E17830D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691-675D-4863-865D-ED052CE5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361C-F60C-4AFC-81AF-3FBA1EA1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9EC-F2BD-4BAC-87A8-E38C7A13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570-4DAE-48C4-8567-7DE45155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999-61AD-4B13-B29E-4F68FE9C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C10-9D0D-47C9-954C-D45315F6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B1F-BD24-4D69-815E-57D5820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4F2-1BD7-4DC6-AA79-94774BF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338-D54F-4C0C-8A43-D1E56A3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04F9-08AD-4A71-B2CD-BBA504A4B6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488-3EB1-4155-9E21-0F3B1E6C943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Lesson 6</a:t>
            </a:r>
            <a:br>
              <a:rPr sz="5400"/>
            </a:b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 Percy Buttons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94920" y="304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here have you just move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at happened one 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hat did he ask you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Did he pay you for the meal and be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What did he do in return fo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Who told you about him l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Is he well-known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What’s he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Has he called on you bef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How often does he call on the houses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ve just moved to a house in Bridge Street. Yesterday a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cked 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y door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ked me for a me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 glass of beer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 return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is, the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od on his he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sang songs. I gave him a meal. He ate the food and drank the beer. Then he put a piece of cheese in his pocket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n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neighbou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ld me about hi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Everybody knows him. His name is Percy Buttons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ls at every hou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 the street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ce a mon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lways asks for a meal and a glass of be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ell the story according to the following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just moved----Bridge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Yesterday---beggar knocked ---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asked ---meal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In return---stood---s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ate food---drank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Then---piece of cheese---pocket---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Later---nighbour---abou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Everybody---him---name---Percy But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 calls---house---street once a---and---asks---meal---glass of 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writer has just moved to a house in Bridge Street. A beggar knocked at her dor yesterday. He sang songs. The writer gave him a meal and a glass of beer in return for this. The beggar’s name is Percy Buttons. He calls at every house in the street once a mon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 sb for sth=ask sth of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向某人索要某物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问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询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asked the teacher for three days’sick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向老师请了三天病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Have I asked you for too much?=Have I asked too much of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向你要求得太多了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asked me for 5 yu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fter the class, he asked me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949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In return (for)      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作为报答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回报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交换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often help him with his English and he gives me film tickets in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经常帮助他学英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给我电影票作为报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约翰送给老太太一束鲜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报答她的慈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gave the old lady a bunch of flowers in return for her kind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汤姆买你的自行车付了多少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id Tom give you in return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at someplace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on somebody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shall call at your house this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今晚要来登门拜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) Tom calls at Green’s office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Tom calls on Green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6:13:12Z</dcterms:created>
  <dc:creator/>
  <dc:description/>
  <dc:language>en-US</dc:language>
  <cp:lastModifiedBy>st</cp:lastModifiedBy>
  <dcterms:modified xsi:type="dcterms:W3CDTF">2002-07-10T07:00:15Z</dcterms:modified>
  <cp:revision>4</cp:revision>
  <dc:subject/>
  <dc:title>Lesson 6  Percy Buttons</dc:title>
</cp:coreProperties>
</file>